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3AC-9CCE-4A3D-B8EE-EA03B1F5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216-9CAB-4404-820E-7D2A051E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16C-6B28-4B12-85CF-F889F8A9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B9C-BAAD-4AF2-AE3A-184DF2A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5A1-96D2-44AF-95EE-E1FF3BB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250-8394-44CC-8512-DBD7BFDF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BD5-633C-4441-BD35-099A1365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0A0-2240-4E94-859D-A8A3D366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8CC-A8F7-4380-B89A-716395A9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6DE-EE2C-4B2B-A88E-3311CE2F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4EB-8311-40A4-913F-105A13C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A3E-7365-4822-9E59-EFB92E4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62BD-303D-4C42-BFAD-CAE7AC706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look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tare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ing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a.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ard. 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43760" y="4519440"/>
            <a:ext cx="819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some one who 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person that reads at 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8-10-09T19:26:48Z</dcterms:modified>
  <cp:revision>3</cp:revision>
  <dc:subject/>
  <dc:title>PowerPoint Presentation</dc:title>
</cp:coreProperties>
</file>